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0938-870C-4813-8AAB-95AE7AAFEE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532B-8504-44F0-A5FB-035B4E7BB4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B87-5FA0-40E0-9268-B882B8B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4D1-8956-4EA8-B6E5-4A81D985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E5D-0587-41D1-BFEF-FDCEFE7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C48-58CE-4FE5-912E-B033744F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314-0566-4057-92EC-C556C756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BAE-96F8-4CC3-9A0E-17C719D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D68-4A16-435C-9F3A-7EE120B2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47B-A903-4C31-B601-366125B9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53D-39D6-458B-A8CA-18435C47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2C2-AA78-4FCC-89AB-45288CF7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18A-5D52-472D-AAA6-7CF4FE9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9F1-DAC8-4756-B471-8D1F148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DD18-F8C0-4351-9EE1-414120EC0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.youku.com/v_show/id_XMTI4Nzk4NzgxNg==.html?spm=a2h0k.8191407.0.0&amp;from=s1.8-1-1.2" TargetMode="External"/><Relationship Id="rId2" Type="http://schemas.openxmlformats.org/officeDocument/2006/relationships/hyperlink" Target="http://v.youku.com/v_show/id_XMjg4NjgwNTEy.html?spm=a2h0j.11185381.listitem_page1.5!4~A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.youku.com/v_show/id_XMjMxODYzNTIw.html?spm=a2h0k.8191407.0.0&amp;from=s1.8-1-1.2" TargetMode="External"/><Relationship Id="rId2" Type="http://schemas.openxmlformats.org/officeDocument/2006/relationships/hyperlink" Target="http://v.youku.com/v_show/id_XODcxMjI0.html?spm=a2h0k.8191407.0.0&amp;from=s1.8-1-1.2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ff.ustc.edu.cn/~lgliu/Courses/ComputerGraphics_2018_spring-summer/Projects/index.html" TargetMode="External"/><Relationship Id="rId2" Type="http://schemas.openxmlformats.org/officeDocument/2006/relationships/hyperlink" Target="http://staff.ustc.edu.cn/~lgliu/Courses/ComputerGraphics_2017_spring-summer/Projects/index.html" TargetMode="External"/><Relationship Id="rId3" Type="http://schemas.openxmlformats.org/officeDocument/2006/relationships/hyperlink" Target="http://staff.ustc.edu.cn/~lgliu/Courses/ComputerGraphics_2016_spring-summer/Projects/index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: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团队合作项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结构分解图（爆炸图）、安装示意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v.youku.com/v_show/id_XMjg5MTk5Mjgw.html?spm=a2h0j.11185381.listitem_page1.5~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.youku.com/v_show/id_XMTI4Nzk4NzgxNg==.html?spm=a2h0k.8191407.0.0&amp;from=s1.8-1-1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.youku.com/v_show/id_XMjg4NjgwNTEy.html?spm=a2h0j.11185381.listitem_page1.5!4~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图片 3" descr=""/>
          <p:cNvPicPr/>
          <p:nvPr/>
        </p:nvPicPr>
        <p:blipFill>
          <a:blip r:embed="rId3"/>
          <a:stretch/>
        </p:blipFill>
        <p:spPr>
          <a:xfrm>
            <a:off x="1619280" y="1168560"/>
            <a:ext cx="1932120" cy="3332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"/>
          <p:cNvPicPr/>
          <p:nvPr/>
        </p:nvPicPr>
        <p:blipFill>
          <a:blip r:embed="rId4"/>
          <a:stretch/>
        </p:blipFill>
        <p:spPr>
          <a:xfrm>
            <a:off x="4140360" y="1052640"/>
            <a:ext cx="32860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动画短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故事、小哲理、小笑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音乐配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特效动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.youku.com/v_show/id_XMjMxODYzNTIw.html?spm=a2h0k.8191407.0.0&amp;from=s1.8-1-1.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v.youku.com/v_show/id_XODcxMjI0.html?spm=a2h0k.8191407.0.0&amp;from=s1.8-1-1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v.youku.com/v_show/id_XNDM3NDM2.html?spm=a2h0k.8191407.0.0&amp;from=s1.8-1-1.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科学原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.youku.com/v_show/id_XMzQxNDgwMDQwOA==.html?spm=a2h0k.8191407.0.0&amp;from=s1.8-1-1.2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偏导数和梯度解释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.youku.com/v_show/id_XMzA5Mzc4Mjk1Ng==.html?spm=a2h0k.8191407.0.0&amp;from=s1.8-1-1.2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原理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v.youku.com/v_show/id_XMTUwOTEzOTI2MA==.html?spm=a2h0k.8191407.0.0&amp;from=s1.8-1-1.2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潜水艇潜水原理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项目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项目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创新、创意、新颖、有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使用工具不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GL, Rhino, GrassHopper, Unity3D, 3D Max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可算法编程辅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有巧妙算法，加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鼓励自然交互（手势、姿态、语音等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要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组队合作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人以内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讨论、头脑风暴、计划、分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规划、设计、项目管理和进度控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项目报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注明每个成员的角色和分工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合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内容、时间规划、分工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尽早规划！！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作业提交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项目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背景、故事、截图、分工、感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使用说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视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展示项目的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可配音讲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项目可执行文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源代码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上述内容上传到百度网盘，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相关链接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写在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项目报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中，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项目报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文档上传到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rtChair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系统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参考以前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时间安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组队截至日期：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项目截至日期：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日 （共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日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日：所有项目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月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日（周四）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9:45-11:45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：期末考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项目展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由小组长负责展示，亦可多人共同展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介绍作品创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展示作品：包括视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每个项目介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10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钟，提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回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Requ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目的与模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项目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综合展示计算机图形学的各种技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团队合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展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团队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人以内）：选出一人做组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或个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内容：开放式，自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模型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模型、场景、机械运动、结构分解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爆炸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软件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游戏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交互类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动画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小动画、小电影、小故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科学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技术展示和解释科学原理（数学、物理、化学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往届的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taff.ustc.edu.cn/~lgliu/Courses/ComputerGraphics_2018_spring-summer/Projects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taff.ustc.edu.cn/~lgliu/Courses/ComputerGraphics_2017_spring-summer/Projects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taff.ustc.edu.cn/~lgliu/Courses/ComputerGraphics_2016_spring-summer/Projects/index.htm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校园漫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991280" cy="45244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8056440" y="141120"/>
            <a:ext cx="93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D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赛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81040" y="1700280"/>
            <a:ext cx="7981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空战游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68360" y="1639800"/>
            <a:ext cx="8299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密室逃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55560" y="1773360"/>
            <a:ext cx="78771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ihua Tong</cp:lastModifiedBy>
  <dcterms:modified xsi:type="dcterms:W3CDTF">2019-04-27T03:13:38Z</dcterms:modified>
  <cp:revision>259</cp:revision>
  <dc:subject/>
  <dc:title>Digital Geometry Processing  </dc:title>
</cp:coreProperties>
</file>